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781-45DE-4003-ADCC-6272D3B8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2E9-809F-4DF3-9B8D-600FF482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B97-CA68-4E7C-AAA3-A79F4C7F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B65-AFB1-4AB7-A786-B1C933F2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4D6E-1E3B-44F5-95D8-F2BFB7B6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E188-3D43-4A58-89CA-74CD7B11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74B9-1E0C-4EB9-A90E-5EB7E143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4192-93B4-41D1-B3BC-030CD57D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7088-EE90-49CC-9A43-09C9FA70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4BFE-C8C6-4291-BF8D-2B748D3A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BD08-2295-4E39-86A5-DBA892A3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791-836D-4C2E-9B5F-38F93245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A0B0-8AF7-4DD9-8F64-D4111DF7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51CE-008D-4AA9-8730-BE7A0364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13D4-D189-40F2-ABD2-438B62D0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ECE5-6068-4094-BCB2-8430968C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5D3A-C811-4439-B4FF-016F2313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DFC2E-2986-4688-9BF7-EC18782B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D7B9C-3497-4CA8-B31B-548FAF69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BE67-F278-4B77-9ABF-226A26B9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E2A67-6D51-4D4B-AB7D-F49DBE01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33E1C-4C53-4185-9407-DA9E3DB2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938-C36C-4585-A6EB-793DA6CC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5EAD7-B7C1-42D0-A6B9-25815A92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08214-C211-466A-A6F9-FFB5519B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34C74-8B46-4042-80FD-FCA4305B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E810F-C9B1-454B-9C42-66C7D6AA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49D2A-B2E3-4422-BFDE-18A7663B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2586-BA42-4F9A-A6D6-61969CCA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80BB-57D2-4F45-9AF5-F6DF354F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827DD-854B-4D09-B0E1-AA4B501F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A7BA0-9558-4060-AAF3-C560E2BF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1DC9B-4588-4824-8556-ADDBB587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661-A94B-49BB-9AA4-13B616CB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013AB-D2B8-4C1C-A8F0-E3E50D71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4FDD3-8A90-4318-9315-3424C06C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BBE62-BE89-4DAA-8736-452438D7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467DA-38D6-4B29-B814-77669854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8FDB7-1229-4606-B661-ABB7B1BC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82608-A070-442F-90A5-51A96D28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3EB0E-A3C1-45F5-9817-349E9E60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9576D-C726-45E0-9378-2A8817E5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C80CF-1B84-4CD5-AE49-4BF37BA2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FAAC9-E0C4-49E3-925E-100030F1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C698-FA05-43D2-8BE1-79ED66D9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CD9B7-58B1-48A0-BFB0-C6DC5342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69C4F-CEB6-4076-83DF-F3403936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7598C-CD53-4606-BBB2-BFBBF636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20336-3209-49D8-85E6-2561183A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4BCD2-03F3-4498-BB07-210C78A2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81016-D9D0-484F-A41F-E7440C3F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D8C2E-F678-4100-A304-256E8E4D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810BE-B255-4469-A596-2222E48C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A1F63-E871-43CF-81DD-3FF34E92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9BAF3-5397-4C26-8A79-6AD1617C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03F-22CE-476D-92D0-8A99C349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F3AAD-4704-4710-9144-056EFE5A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9E6E3-898F-4B08-B782-03597AAB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6AF4F-C4D5-4F74-8B9A-A439C1F6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E641A-7B84-4106-B006-2A92CAE9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C253B-9685-415D-B753-E759C853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8F156-0A37-4AC9-ADC9-72730772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2BCA4-CD95-4B01-B8A9-5DCC0355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CCB03-DFAC-447E-BE12-0390B772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F8515-E9DB-40BB-848C-8FCB0641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DF0B6-CF68-42FF-8F5E-829294AC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B44-B714-43E4-840A-20BA6A5F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8AE95-688C-469C-9153-17EC1741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BA452-6C0C-4DDC-9238-77AEDAC8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E51E6-0539-4F8C-A547-C3269F30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88D-E445-4A22-BB57-591CE005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1C8-603F-4039-AFAC-00D00E1F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CA2F-2C42-4463-A6CE-CDE205D6BF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9B16-3057-465D-AE7D-65CC186DC45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AAF4-E323-4EBB-8A51-F2E3EA7AF7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509A-1E57-45F7-BDCD-4957EF2890D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9A3B-271E-44C5-AF08-971C01FFD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DE11-6070-454C-AE5A-DE713B25E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00720" y="188640"/>
            <a:ext cx="2843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ЗДОРОВЬЕ ЧЕЛОВЕКА</a:t>
            </a:r>
            <a:br>
              <a:rPr sz="1200"/>
            </a:b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слайд1</a:t>
            </a:r>
            <a:br>
              <a:rPr sz="4000"/>
            </a:br>
            <a:br>
              <a:rPr sz="1200"/>
            </a:b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8280" y="2997000"/>
            <a:ext cx="7446960" cy="1198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ЗДОРОВЬ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204640"/>
            <a:ext cx="8229600" cy="576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Arial"/>
              </a:rPr>
              <a:t>ФАКТОРЫ, РАЗРУШАЮЩИЕ </a:t>
            </a:r>
            <a:br>
              <a:rPr sz="2600"/>
            </a:br>
            <a:br>
              <a:rPr sz="17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3640" y="580536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Работу выполнила: 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МАОУ «Средняя общеобразовательн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п. Большая Вишера» Мохова Ирина Стефан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79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Действие наркотик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8360" y="1125360"/>
            <a:ext cx="4038480" cy="345600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физическое состояние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Общее истощ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ннее поседение и полыс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рушение зуб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сстройство работы внутренних органов, прежде всего сердца и лег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Формирование слабоумия и общая деградац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Нарушение походки и координации движений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642920" y="1125360"/>
            <a:ext cx="4038840" cy="3456000"/>
          </a:xfrm>
          <a:prstGeom prst="rect">
            <a:avLst/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психическую деятельность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езко сужается круг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Падает морально – этический уров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Мышление теряет логическую связь, появляются элементы б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виваются рассеянность, забывчивость, переходящие в глубокую потерю памя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Грубость, злобность, необузданность, жесто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амый надежный способ профилактики наркомании – решительный отказ от первого приема наркоти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Несанкционированная продажа, распространение и хранение препаратов, содержащих наркотические вещества, преследуется по зако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aramond"/>
              </a:rPr>
              <a:t>3. Табакокурение</a:t>
            </a:r>
            <a:br>
              <a:rPr sz="20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Табакокурение – наиболее распространенная вредная привычка, отрицательно влияющая на здоровье курильщика и окружающих людей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2060640"/>
          <a:ext cx="8229600" cy="4608000"/>
        </p:xfrm>
        <a:graphic>
          <a:graphicData uri="http://schemas.openxmlformats.org/drawingml/2006/table">
            <a:tbl>
              <a:tblPr/>
              <a:tblGrid>
                <a:gridCol w="2232000"/>
                <a:gridCol w="59976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курит от случая к случаю не более 2 – 5 сигарет в день; привыкание к табаку отсутству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испытывает нестойкое влечение к табаку, выкуривает 5 – 10 сигарет в сутки, может бросить курить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рну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15 – 20 сигарет в сутки, у него формируется физическая зависимость, при попытке бросить курить у него развивается тяжелое физическое и психическое состоя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40 – 50 сигарет в сутки, часто натощак и среди ночи; ощущает непреодолимое влечение к табак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дки необратимые изменения в нервной системе, внутренних органах и кровеносных сосуд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50920" y="1628640"/>
            <a:ext cx="8713800" cy="936720"/>
          </a:xfrm>
          <a:prstGeom prst="downArrowCallout">
            <a:avLst>
              <a:gd name="adj1" fmla="val -180115"/>
              <a:gd name="adj2" fmla="val 232561"/>
              <a:gd name="adj3" fmla="val 16667"/>
              <a:gd name="adj4" fmla="val 66667"/>
            </a:avLst>
          </a:prstGeom>
          <a:solidFill>
            <a:srgbClr val="cc9900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69696"/>
          </a:solidFill>
          <a:ln w="9360">
            <a:solidFill>
              <a:srgbClr val="cc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аиболее опасные для организма человека </a:t>
            </a:r>
            <a:br>
              <a:rPr sz="2400"/>
            </a:b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компоненты табачного дыма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котин – один из самых опасных ядов, по ядовитости равен синильной кис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4508640"/>
            <a:ext cx="8637480" cy="865080"/>
          </a:xfrm>
          <a:prstGeom prst="upArrowCallout">
            <a:avLst>
              <a:gd name="adj1" fmla="val -197237"/>
              <a:gd name="adj2" fmla="val 249615"/>
              <a:gd name="adj3" fmla="val 16667"/>
              <a:gd name="adj4" fmla="val 666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шьяк   - сильный канцероген, способствует развитию рака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35640" y="2565360"/>
            <a:ext cx="3240000" cy="936720"/>
          </a:xfrm>
          <a:prstGeom prst="leftArrow">
            <a:avLst>
              <a:gd name="adj1" fmla="val 50000"/>
              <a:gd name="adj2" fmla="val 8647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миак – разрушает слизист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лочку 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4000" y="2565360"/>
            <a:ext cx="3600360" cy="936720"/>
          </a:xfrm>
          <a:prstGeom prst="rightArrow">
            <a:avLst>
              <a:gd name="adj1" fmla="val 50000"/>
              <a:gd name="adj2" fmla="val 9609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льная кислота –сильнейший я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окирует клеточное дых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3645000"/>
            <a:ext cx="3600360" cy="917640"/>
          </a:xfrm>
          <a:prstGeom prst="rightArrow">
            <a:avLst>
              <a:gd name="adj1" fmla="val 50000"/>
              <a:gd name="adj2" fmla="val 980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бачный деготь – способ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ю злокачественных опухо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5640" y="3645000"/>
            <a:ext cx="3313080" cy="936360"/>
          </a:xfrm>
          <a:prstGeom prst="leftArrow">
            <a:avLst>
              <a:gd name="adj1" fmla="val 50000"/>
              <a:gd name="adj2" fmla="val 8845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гар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зко уменьш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держание кислород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957480" y="2943360"/>
            <a:ext cx="1229040" cy="971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5445000"/>
            <a:ext cx="1068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Наиболее эффективный способ профилактики табакоку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олный и категорический отказ от та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. Болезни, передаваемые половым путем.</a:t>
            </a:r>
            <a:br>
              <a:rPr sz="2400"/>
            </a:b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Болезни, передаваемые половым путем – это инфекционные заболевания, объединенные в одну группу по преимущественному способу заражения.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5280" y="1197000"/>
          <a:ext cx="8229600" cy="5583240"/>
        </p:xfrm>
        <a:graphic>
          <a:graphicData uri="http://schemas.openxmlformats.org/drawingml/2006/table">
            <a:tbl>
              <a:tblPr/>
              <a:tblGrid>
                <a:gridCol w="1882800"/>
                <a:gridCol w="2376360"/>
                <a:gridCol w="2232000"/>
                <a:gridCol w="1738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звание и инкубационн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ловия передачи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зможные 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нор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5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 : жар, жжение, выде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.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 быстро проходя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сплодие, поражение сердца и сустав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фи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пасности подвергаются члены семь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явление безболезненной язвы, увеличение лимфатических узлов, появление сы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звитие паралича, слабоумие, рождение детей с пороками разви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рихомони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– 15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 больной матери к новорожденно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: бессимптом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, жж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спаление внутренних половых органов, бесплод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рп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оли внизу живота и в паху. Покраснение, появление пузырь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вторения и рециди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нд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уд, жжение, болезненность половых органов, выделения (у женщин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лительное течение. Повторные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620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95280" y="620280"/>
            <a:ext cx="4038480" cy="25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еры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блюдение правил личной гигие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тказ от случайных половых связ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Безопасное сексуальное пове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емедленное об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 в первые 2 часа) в кожно – венерологический диспан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0" y="620640"/>
            <a:ext cx="4038480" cy="266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После болезней передающихся половым путем не возникает иммунитета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24000" y="3573360"/>
            <a:ext cx="822960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ражение заболеваниями, передаваемыми половым путем, других лиц согласно кодексу РФ является уголовным преступлением и наказывается штрафом или лишением свободы на срок до двух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29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АЛКОГОЛИЗМ</a:t>
            </a:r>
            <a:br>
              <a:rPr sz="23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Алкоголизм – хроническое заболевание, обусловленное систематическим, частым и неумеренным употреблением спиртных напитко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31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200" spc="-1" strike="noStrike">
                <a:solidFill>
                  <a:srgbClr val="ff9900"/>
                </a:solidFill>
                <a:latin typeface="Tahoma"/>
              </a:rPr>
              <a:t>Стадии развития алкоголизм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755640" y="2276640"/>
          <a:ext cx="7464600" cy="4065480"/>
        </p:xfrm>
        <a:graphic>
          <a:graphicData uri="http://schemas.openxmlformats.org/drawingml/2006/table">
            <a:tbl>
              <a:tblPr/>
              <a:tblGrid>
                <a:gridCol w="3732120"/>
                <a:gridCol w="373248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чальная (доалкоголь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начинает употреблять спиртные напитки чаще обычного, но стойкая тяга к алкоголю у него еще не закрепилас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грожающая (порогов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уже достаточно сильно пристрастился к спиртному, но у него есть еще возможность остановить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итическ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потребление алкогольных напитков для человека становиться потребностью, которая может стать необратимо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роническая (полный алкоголизм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способность человека контролировать свои действия и поступки; частые и продолжительные запои; тяжелое опьянение с потерей сознания, а иногда и с остановкой дых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7251480" y="0"/>
            <a:ext cx="18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Последствия</a:t>
            </a:r>
            <a:br>
              <a:rPr sz="2300"/>
            </a:b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                         злоупотребления алкоголем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здоровь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нервн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деятельности сердечно – сосудист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расстройство работы органов пищевар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сопротивляемости организма  многим инфекционным и простудным заболевани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социального положени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эффективности труда, утрата профессиональных навы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Утрата нравственных регуляторов поведения (совесть, долг, достоинство, ответственность, тактичность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Безответственные действия, приводящие к травмам и несчастным случаям в быту, на транспорте и производст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637236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авда о пив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считаю, что употребление пива совсем не вредно, а даже полезно. Пиво не считают алкогольным напитком, и именно с него начинается алкоголизация молодё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189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слайд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                                             </a:t>
            </a: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Содержание водки и спирта в различных сортах пи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68360" y="1989000"/>
          <a:ext cx="8229600" cy="4321080"/>
        </p:xfrm>
        <a:graphic>
          <a:graphicData uri="http://schemas.openxmlformats.org/drawingml/2006/table">
            <a:tbl>
              <a:tblPr/>
              <a:tblGrid>
                <a:gridCol w="2809800"/>
                <a:gridCol w="1452600"/>
                <a:gridCol w="1468440"/>
                <a:gridCol w="249876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п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нт алког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ирта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ки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ан 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 медве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лер (безалкогольн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нигсб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ейнек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чка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опр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4572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филактика алког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лайд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Процент содержания алкоголя в различных сортах пи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71640" y="1628640"/>
            <a:ext cx="7848360" cy="5183280"/>
            <a:chOff x="971640" y="1628640"/>
            <a:chExt cx="7848360" cy="5183280"/>
          </a:xfrm>
        </p:grpSpPr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971640" y="1628640"/>
              <a:ext cx="78483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51280" y="6165720"/>
              <a:ext cx="68112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508720" y="0"/>
            <a:ext cx="456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250"/>
                            </p:stCondLst>
                            <p:childTnLst>
                              <p:par>
                                <p:cTn id="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9383b3"/>
                </a:solidFill>
                <a:latin typeface="Times New Roman"/>
              </a:rPr>
              <a:t>             </a:t>
            </a:r>
            <a:r>
              <a:rPr b="0" lang="en-US" sz="15100" spc="-1" strike="noStrike">
                <a:solidFill>
                  <a:srgbClr val="9383b3"/>
                </a:solidFill>
                <a:latin typeface="Times New Roman"/>
              </a:rPr>
              <a:t>?</a:t>
            </a:r>
            <a:endParaRPr b="0" lang="en-US" sz="15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Задумайтесь, так ли безобидно пиво!?</a:t>
            </a: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Стоит ли тратить свою жизнь на такое опасное удовольстви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1159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Злоупотребление алкоголем сокращает жизнь на 10 – 15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Лучший способ профилактики алкоголизма – трезвый образ жиз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Продажа алкогольной продукции лицам моложе 18 лет преследуется по закон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 – болезнь, характеризующаяся непреодолимым влечением к наркотикам, вызывающая в малых дозах эйфорию, в больших – оглушение, наркотический сон, смерть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тадии формирование наркотическ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2205000"/>
          <a:ext cx="8147160" cy="409752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ч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Желание просто попробовать наркотик, стремление убежать от трудностей, потребность сделать жизнь более интерес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Осознанное привык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ланирование приема наркотиков, наркотики становятся необходимым атрибутом отды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Формирование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ркотики не приносят удовольствия, а употребляются для приведения организма в норму; возникают проблемы со здоровьем; теряется контроль над повед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Завершение формирования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остоянная потребность в наркотиках; большинство наркоманов, дошедших до этой стадии, погибают от передозиро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7:39:55Z</dcterms:created>
  <dc:creator>Ирина</dc:creator>
  <dc:description/>
  <dc:language>en-US</dc:language>
  <cp:lastModifiedBy>Ирина</cp:lastModifiedBy>
  <dcterms:modified xsi:type="dcterms:W3CDTF">2010-06-09T05:34:25Z</dcterms:modified>
  <cp:revision>23</cp:revision>
  <dc:subject/>
  <dc:title>ФАКТОРЫ,                      РАЗРУШАЮЩИЕ                                                      ЗДОРОВЬЕ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